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445D-6F8B-4994-B3BA-D7CD15DE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9378-31C0-4518-B0CC-2411D038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DFFE-AA1D-4351-8A48-961C96A0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278D3-ACEF-4133-9347-66ED0FDE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444A-D0B6-41FD-8ECC-6AF96484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3691-0FF7-44B5-A4AC-E3880311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6D09-D6ED-4CB2-9750-DED1F8BB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83FB-8C1F-4E31-97E9-7B4C493E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9E4A-918F-46DC-BC5B-6EF15F8C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11E2-4C5C-4B8A-B3DD-A9E1D92E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EDAC-87DF-49D1-B142-D43FB19C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6625-593C-4508-95BE-5E3019F8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9CFD-7376-494F-8289-D45B0A64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09F7-EBC3-4D3C-8190-D775DC6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F519-5A5D-4F42-AB36-4D79697D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EFFD-4475-4037-9C51-F7C996C1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A596-0A74-46A6-BBB4-4E020502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4E31-45D4-413E-A2A9-B0273BF6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AFC8-6296-4CB4-85A5-EE8A6580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4603-5B69-4578-9FCD-26A646F1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3D57-06AD-42D4-8C4A-E512A13C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2417-CC21-40BA-8F5E-FAE3D054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9513-A714-4687-B24D-1A10C62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B034-BE4C-4498-A45B-6A00BAD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6FA6-B124-4C6F-A83C-A338031E5B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6D7F-E905-42D6-BC12-3B697762B8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Go Tell The Good News</a:t>
            </a:r>
            <a:br>
              <a:rPr sz="5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Quarter 12, Lesson 9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s 20:7-21:1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ges 180-18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ap Of Paul’s Third Journ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ck through Macedo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o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e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tolem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esa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rusa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 Of Acts 20:7 - 21:1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aching at Tro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iling to Mile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rival at Ty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rival at Caesa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rival at Jerusa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aching At Tro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rived at Troas from Philipp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day of the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preached a les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utychus fell asleep during the lesson and fell from the third 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embraced him and healed hi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is the first time the Lord Supper is recorded as being obser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iling To Mile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traveling through Assos, Mitylene, Chios, and Samos, Paul arrived at Mile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etus is a seaport in close proximity to Ephes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came here instead of traveling into Ephesus because he was hurrying to get to Jerusalem for Pente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iling To Miletus (cont’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there, Paul called the elders of Ephesus together to give them a final char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his charge he included the following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have served the Lord faithful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here is trouble in Jerusa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will not see you ag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alse teachers will come among yo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rival At Ty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traveling through Cos, Patara and Rhodes Paul went aboard a ship headed to Phoeni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Rhodes they went to Cyprus and Syria and then arrived at Tyre where the ship was unloading some car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stayed a short while visiting and then bid farewell to the disciples there and reboarded the 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rival At Caes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stopping for a brief time in Ptolemais, Paul came to the seaport of Caesa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Paul met up once again with Phil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 met Agabus the prophet who tells Paul about his fate in Jerusa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aesareans begged him not to go but he persis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rival At Jerusa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arrived safely at Jerusalem and was welcomed warmly by the brethren the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ap Of Paul’s Third Journ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och of Sy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latia and Phry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phesus (Book of Galatians and 1 Corinth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o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edonia (2 Corinth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inth (Book of Roma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0:09:47Z</dcterms:created>
  <dc:creator>Tab L. Vines</dc:creator>
  <dc:description/>
  <dc:language>en-US</dc:language>
  <cp:lastModifiedBy>Tab L. Vines</cp:lastModifiedBy>
  <dcterms:modified xsi:type="dcterms:W3CDTF">2007-02-04T03:32:59Z</dcterms:modified>
  <cp:revision>9</cp:revision>
  <dc:subject/>
  <dc:title>Go Tell The Good News Quarter 12,Lesson 9</dc:title>
</cp:coreProperties>
</file>